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B93-81DB-4776-99B8-2133B840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3784-1360-4F0A-964F-AE80B01A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EA5-4212-443A-9BF1-CFC45E65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27B5-1252-4430-998E-64B6ABAB8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FE92-85FE-47D0-8DEC-0D3304E0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5F41-BC15-4F01-9C4F-15BFA236A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C184-56FA-40B7-B753-E2300D6D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E7FE-E5CC-4CAB-90DA-C6BFACE4F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8209-0A38-4476-A1C9-2DFAB1B5A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6C0A-C35F-4614-8D7E-99BFAEA0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CB936-FC0D-4969-9DEE-5F984193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E7AD-BB56-4181-8B7D-4AFA4A39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57CB-23A9-4644-97E4-97D77A2EE1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Circui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needed in a circu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wer supply (battery) - Provides a voltage differenc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(the pressure or force which makes the electrons flo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ors (wires) - Connect the device to the terminal of the battery.  Electrons flow through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stance (light bulb) - Slows the flow of elec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rcuit Schemat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057400"/>
            <a:ext cx="1905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te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 bul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828800" y="2057400"/>
            <a:ext cx="990720" cy="579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050560" y="26352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433600" y="3352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209680" y="3581280"/>
            <a:ext cx="838440" cy="4748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847960" y="4152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286000" y="4267080"/>
            <a:ext cx="723960" cy="432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183640" y="1828800"/>
            <a:ext cx="244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raw your circu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3:40:01Z</dcterms:created>
  <dc:creator>Dan Salazar</dc:creator>
  <dc:description/>
  <dc:language>en-US</dc:language>
  <cp:lastModifiedBy>Dan Salazar</cp:lastModifiedBy>
  <cp:lastPrinted>2011-12-07T14:30:55Z</cp:lastPrinted>
  <dcterms:modified xsi:type="dcterms:W3CDTF">2011-12-07T14:54:34Z</dcterms:modified>
  <cp:revision>3</cp:revision>
  <dc:subject/>
  <dc:title>Introduction to Circuits</dc:title>
</cp:coreProperties>
</file>